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A28-834E-420F-B637-0662F2EA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D27-CF4A-4036-BB03-05AD2526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40E-47D0-4945-B6C9-DDA031DB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129-8E22-43BE-90C1-E7ACE35F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2F7C-81FB-44E2-8165-780C77EE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349A-74C8-4A2B-99EC-520B2A72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3C65-1CAC-4573-9C28-35F2EFE1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D557-2AC5-4327-8FEE-05EA5DA1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5F00-D15C-4124-BAFE-B4FDF55F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D6FC-5DBF-46EC-87DB-F363173C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6965-D84F-4E34-9218-77FEB726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1AB-F862-4E97-9D6F-1EA377AA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ED13-3D79-4A68-B7BF-58A49B0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D9A8-E1CB-4FEA-9059-4B056673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99E1-676D-435C-8182-5DFB1E47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EE58-AD77-46F1-85F2-FFAB9603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CB64-6D87-47B5-9D4E-527E9B33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4F3-4A25-468E-9568-65A1E537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D9C-BBBF-4B1B-95B7-3107179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DEF-C0B2-43A2-9D88-F83DEDDE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0BE-4B03-473E-B1E3-1FED6774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D94-8F31-4BF4-92D1-E1E992CA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AAD-44BF-4A3D-B643-B871A3F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3DE-6826-4E77-AB14-FC235280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CDEC-6546-442E-BE1D-8A43150DDE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EC17-D961-44F5-9B76-77A2457ED3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715160" cy="4714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7f0000"/>
                </a:solidFill>
                <a:latin typeface="Comic Sans MS"/>
              </a:rPr>
              <a:t>Общие понятия о сечениях. Правила выполнения наложенных и вынесенных сечений, их обозначение.</a:t>
            </a:r>
            <a:br>
              <a:rPr sz="9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46280" y="4530600"/>
            <a:ext cx="233532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Мысленно представляем фигуру се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9"/>
          <p:cNvPicPr/>
          <p:nvPr/>
        </p:nvPicPr>
        <p:blipFill>
          <a:blip r:embed="rId1"/>
          <a:stretch/>
        </p:blipFill>
        <p:spPr>
          <a:xfrm>
            <a:off x="4500720" y="182880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редставленную фигуру изображаем на чертеж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10"/>
          <p:cNvPicPr/>
          <p:nvPr/>
        </p:nvPicPr>
        <p:blipFill>
          <a:blip r:embed="rId1"/>
          <a:stretch/>
        </p:blipFill>
        <p:spPr>
          <a:xfrm>
            <a:off x="5148360" y="1989000"/>
            <a:ext cx="3024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На сечениях показывают только то, что находится непосредственно в секущей плоск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Сечение – это не действие, а изображени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3772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Вынес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9800" y="1557360"/>
            <a:ext cx="3771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алож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2626920" y="981000"/>
            <a:ext cx="136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211640" y="98100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0" descr="12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бо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6" descr="11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685800" y="2760840"/>
          <a:ext cx="377208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0840"/>
                    <a:ext cx="377208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9" descr="13"/>
          <p:cNvPicPr/>
          <p:nvPr/>
        </p:nvPicPr>
        <p:blipFill>
          <a:blip r:embed="rId3"/>
          <a:stretch/>
        </p:blipFill>
        <p:spPr>
          <a:xfrm>
            <a:off x="250920" y="1052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6" descr="14"/>
          <p:cNvPicPr/>
          <p:nvPr/>
        </p:nvPicPr>
        <p:blipFill>
          <a:blip r:embed="rId1"/>
          <a:stretch/>
        </p:blipFill>
        <p:spPr>
          <a:xfrm>
            <a:off x="468360" y="112536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понятия о сечениях как изображениях, а также их назначение и примен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алгоритм построения се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пространственные представления, пространственное мыш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3918240" cy="302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2"/>
          <p:cNvPicPr/>
          <p:nvPr/>
        </p:nvPicPr>
        <p:blipFill>
          <a:blip r:embed="rId2"/>
          <a:stretch/>
        </p:blipFill>
        <p:spPr>
          <a:xfrm>
            <a:off x="4643280" y="1844640"/>
            <a:ext cx="410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154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3"/>
          <p:cNvPicPr/>
          <p:nvPr/>
        </p:nvPicPr>
        <p:blipFill>
          <a:blip r:embed="rId1"/>
          <a:stretch/>
        </p:blipFill>
        <p:spPr>
          <a:xfrm>
            <a:off x="709560" y="549360"/>
            <a:ext cx="7647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"/>
          <p:cNvPicPr/>
          <p:nvPr/>
        </p:nvPicPr>
        <p:blipFill>
          <a:blip r:embed="rId1"/>
          <a:stretch/>
        </p:blipFill>
        <p:spPr>
          <a:xfrm>
            <a:off x="685800" y="1052640"/>
            <a:ext cx="3772080" cy="4006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6"/>
          <p:cNvPicPr/>
          <p:nvPr/>
        </p:nvPicPr>
        <p:blipFill>
          <a:blip r:embed="rId2"/>
          <a:stretch/>
        </p:blipFill>
        <p:spPr>
          <a:xfrm>
            <a:off x="5724360" y="1557360"/>
            <a:ext cx="2303640" cy="26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0"/>
          <p:cNvPicPr/>
          <p:nvPr/>
        </p:nvPicPr>
        <p:blipFill>
          <a:blip r:embed="rId3"/>
          <a:stretch/>
        </p:blipFill>
        <p:spPr>
          <a:xfrm>
            <a:off x="4140360" y="4724280"/>
            <a:ext cx="1609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ечение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- это изображение</a:t>
            </a:r>
            <a:r>
              <a:rPr b="0" lang="ru-RU" sz="4000" spc="-1" strike="noStrike" u="sng">
                <a:solidFill>
                  <a:srgbClr val="0099ff"/>
                </a:solidFill>
                <a:uFillTx/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фигуры, полученной при мысленном рассечении предмета секущей плоскость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На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Помогает получать более четкое представление о форме предм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Дает возможность выполнять меньшее количество изображений на чертеж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72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Мысленно провести секущую плоскость в том месте детали, где необходимо определить форму внутреннего кон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4932360" y="1557360"/>
            <a:ext cx="3449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Мысленно удаляем одну из частей дета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8"/>
          <p:cNvPicPr/>
          <p:nvPr/>
        </p:nvPicPr>
        <p:blipFill>
          <a:blip r:embed="rId1"/>
          <a:stretch/>
        </p:blipFill>
        <p:spPr>
          <a:xfrm>
            <a:off x="4716360" y="1828800"/>
            <a:ext cx="350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00:58Z</dcterms:created>
  <dc:creator>User</dc:creator>
  <dc:description/>
  <dc:language>en-US</dc:language>
  <cp:lastModifiedBy>Admin</cp:lastModifiedBy>
  <dcterms:modified xsi:type="dcterms:W3CDTF">2012-11-28T15:59:33Z</dcterms:modified>
  <cp:revision>24</cp:revision>
  <dc:subject/>
  <dc:title>Сечение</dc:title>
</cp:coreProperties>
</file>